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336-98BC-4E25-A878-E7790274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BBB-E9FD-4371-A0E0-3791EF438A0D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B96-E4DB-43BF-8D29-3CA654AE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6CB-CF54-406E-9911-954AD2D9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06A-CD64-44AA-828D-59929614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78F-62B8-4E8E-8F89-62750E8B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7235-8C86-49A1-AAAD-BDE9CD55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A857-5B11-4CAB-AD20-3BDBEFA1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E467-13FB-4A2F-B360-21113949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8F73-9CF0-40BC-8AF1-6116E263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A36-6BED-4CEC-AA42-CF6EA8C0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0703-637F-472A-9248-26441134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E91C-A6AB-4352-BEF0-F2C1DB63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364-7264-42A4-ACB1-FD33C17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358F-CD1F-45CE-BFCA-9355D03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DDBC-C4EB-4B1D-92FE-83F262FE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F592-4AD1-4247-9832-E7D84F0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6383-C535-4716-AD9F-BAF310D5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E608-EB30-412D-8E43-D12A342A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4FAC9E-2CAC-4D32-A688-00E44391A0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C87C92-53BB-4349-9BC5-C4C9F12EB3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78DF81-7872-4059-AF45-805B4B77CE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EF8DF-FCE5-494D-A097-652DFCB27B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6921E7-D71C-4719-A11A-F7624EE2E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B1F-9673-4CD1-A8B6-4F32D109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7A399-A38A-43A9-8B34-398224B48F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DBA0E-2043-4D00-89F1-726B923545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A611DF-EBAD-4E5F-B2C8-E0079D63EB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3A6D78-13CF-49E2-94A2-7EEAEFD9D4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B3E4E-8133-4E75-8DED-236FE0EDD1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67376-95DB-4621-91F4-F2EAD0F067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384020-BA04-44E3-818B-D25812EA6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515-0C7D-4296-B377-9462AFD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271-C726-4F51-B2AD-88872AA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01C-E27E-4120-814F-AEFF40B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539-63F2-4085-9C49-9EF21BA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7BCE-F054-4DBF-A080-4D5CA0E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B85-7A43-4DA0-803E-092EEA95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DDC2-EE14-4674-9A8B-354637E36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BD1A-443A-4E03-B370-E5700352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92CE-5109-482E-BE95-7937FA116A9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sr.wikipedia.org/wiki/&#1058;&#1077;&#1083;&#1086;" TargetMode="External"/><Relationship Id="rId4" Type="http://schemas.openxmlformats.org/officeDocument/2006/relationships/hyperlink" Target="https://sr.wikipedia.org/wiki/&#1047;&#1076;&#1088;&#1072;&#1074;&#1113;&#1077;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ОПШТИ ПРИНЦИПИ ФИЗИКАЛНЕ ТЕРАПИЈЕ ПОСТТРАУМАТСКИХ СТА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а слика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 Бол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 Деформа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 Патолошка покретљивос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. Крепитац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5. Губитак функци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74FA-FB44-4EF7-8B01-39813B46BB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линички знаци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Не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ост на палпацију и/или при покр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а боје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или потпуни испад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Сигурни знаци прело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уздужне ос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 улом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C5C-60E9-4C00-8DED-0F132B168B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- сигурни и несигурни знац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цинтиграфија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3B59-54C6-45C2-BD44-AB0445EF2B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ЗАРАСТАЊЕ ПРЕЛОМ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 СЕ У ТРИ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АЗА ИНФЛАМ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ФАЗА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е нису потпуно одвојене, већ се преклапа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FE34-0864-4139-9BFD-B4D2E9B1F1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Лечењ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440" y="159984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АЗ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ХАБИЛИТАЦИЈА ПО СКИДАЊУ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98960" indent="-498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B04D-0945-4E7D-83B7-64BE693B76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ИМОБИЛИЗ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ЕПОЗИ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мануелна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екстензијом (кожна, скелетна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оперативно (крвава репозиција).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ОБИЛИЗАЦИЈА РЕПОНИРАНОГ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ГИПСА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ПЕРАТИВНА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СТЕОФИКСАЦИЈА (ОСТЕОСИНТЕЗА)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СПОЉАШЊА ФИКСАЦИЈА ФРАГМЕНАТА АПАРАТОМ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РТРОПЛАСТИК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РТРОДЕЗ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СТЕОТОМИЈ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РЕСЕКЦИЈА КОСТИ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34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АМПУТАЦИЈА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РА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C31-5B95-4523-87D6-36BEEB06C7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А. За време имобилиз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мулација остеоген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Б. Након скидања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ОП у 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брзине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опште и локалне изджљив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03A-B92A-407E-9D84-685959B19F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стимулација остеогенез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144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4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ТИЧКЕ КОНТРАКЦИЈЕ ИМОБИЛИСАНИХ МИШИЋ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са тонусом који је најмање 30% од максималног тонус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стиже се ублажавање последица инактивите, превниција компликација и стимулација остеогенез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Ч ОСЛОНАЦ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о 10% ТТ- симулација пиезоелектричним ефекто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акција мишића и мобилизација суседних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 (90-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100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z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еко гипсане имобилиз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 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262-6055-437E-BC42-7C627DED71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ЕХАБИЛИТАЦИЈА ПО СКИДАЊУ ИМОБИЛИЗ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имобилизациона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активитет довод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за трофичких и дегенеративних промена ЛМС услед изостанка еферентних импул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а координације покрета одн дискинезије услед инхибиције у ЦНС-у, у условима изостанка аферетних проприоцептивних импул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D84C-492B-4562-A9C1-A56AF7EA8D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термо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 (1-3 мин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диферетне зоне- парафин, ИР, КТ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циркулацију:вазодилатација (активна хиперемија), долази до убрзања цирукулације (бржи прилив артеријске, брже отицање венске и лимф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делује на везивно ткиво- повећава истегљивост колагена (зглобова, тетива, ожиљно везивно ткив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због ових разлога доводи до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↑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иканости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0C15-8532-4DE0-9784-003560CCB5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рауматолог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ологија је грана медицине која се бави лечењем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(траума) је насилно оштећење 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 (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здрављ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изазвано искључиво дејством спољашњих факт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BF69-5453-4E8E-9512-0F73ED1516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buClr>
                <a:srgbClr val="66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ЕЛЕКТРО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поненцијалн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02A6-FDB6-40D4-B0AD-46F201DF52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аг.поље ниске фреквенције:смањује оток, инфламацију, бол и стимулише остеогенезу, код конт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ра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тура, побољшава микроциркулацију (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10 mT, 50Hz, 30 min).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аг.поље високе фреквен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Биостимулативни ласер, аналгетско и антиинфламаторног дејства. Примењује се на акупунктурне тачке ил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скенирајући нач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W, f 1000Hz, 3 min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о тачки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Одаберу се 4-5 тачака и зраче се по 3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481-633A-4705-A818-E10B6D1439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ЛТРАЗВУ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0,8 W/cm², 5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пулсни и континуирани Уз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ејство: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механичк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микромасажа ткива на ћелијском нивоу), мења се пропу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љивост мембране (повећавају се дифузиони процеси и метаболизам) и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термичко дејство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астаје услед апсорпције Уз Е (значајно за савлађивање контрактура)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 ЗРАЦИ-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започиње се локално биодозом, и сваког дана се повећа за једну биодозу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CB9-5CF9-4048-8B22-A07D4F1EF9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АКТИВНЕ ВЕЖБ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ВЕЖБЕ ИСТЕЗАЊА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татичко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Балистичко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НФ истез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 Пасивне вежбе се не препоручуј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ХИДРОТЕРАПИЈ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-тушеви, подводне масаже, вртложне купке, бисерне када, угљено киселе и сулфоводоничне купке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Саветује се у комбинацији са КТХ- хидрокинезитерапиј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94EF-D309-4AB0-ACD4-57A026D42D2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САЖ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Није дозвољена у пределу калус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Примењује се проксимално и дистално ради побољшања периферне циркулациј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хипобарична терапија. На интактну кожу, навлаке према локализацији (капа, рука, чизма), подпритисак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0,3-0,4 bara, 6-20 mi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АД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доводи до повећања МОП, побољшања коорднинације, повећења локалне и опште издржљивости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6637-DD02-4826-BB8B-D154DD2B2A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ВРЕДЕ МЕКИХ ТКИВ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Д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синдром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ГЗ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стају деловање спољашње си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ли аге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у звисности о оштећења интегритета кож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твор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затвор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1374-15E1-44FE-80F8-722330110F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ОДЕЛА ПРЕМА ТОКУ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АКУТНЕ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зазване изненадним дејством силе (дисторзије, дистензије, луксације…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ХРОНИЧНЕ 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азване континуираним стресом током дугог временског периода (скакачко колено, тениски лакат…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E2D6-87AA-4DDF-BE76-4E5A2CC31D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ЕНДОГЕ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анатомска и физиолошка промена структура, због премора ил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51"/>
              </a:spcBef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58c"/>
                </a:solidFill>
                <a:latin typeface="Tahoma"/>
              </a:rPr>
              <a:t>ЕГЗОГЕ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еловањем спољних сила или агенас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6120-2F2E-4A63-80D9-B133011978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УНУТРАШЊИ ФАКТОР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р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тход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омалије у грађ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чка способ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и дизбала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сихолошки фак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стемске боле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F02D-E0E7-46F5-BD63-5876CA4E53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ине: кости, зглобов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гаменти, мишићи и тетиве, живци и крвни судови, поткожно ткиво и кож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могу настати дејством директне и индиректне механичке силе која прелаз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раницу еластичне деформ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0B4-3A88-483B-8AB4-49D2184F14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559F-1864-4D74-8B63-EF3CBB8FD2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тупе динамичке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вни подл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на функ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и некрозе повређеног ткива и крвних суд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0C6A-10D7-45A3-889D-08209AA7B2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2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ректно дејство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њење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окретљивост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суседним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глобо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ермускуларни и интрамускуларн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хемат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рамускуларни хематом је проблем: ожиљак,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ракција, осиф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2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некад је потребна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пер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2FA5-564B-4525-A6CF-598709FB027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ЈАГНОСТИКА ПОВРЕДА М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Ш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Ћ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 преглед: инспекција, палпација, перку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оногра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зимска дијагностика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PK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казује високе вредности 2-3 дана од повреде, након тога нагло пада и од 5-6 дана од повреде остаје лако повиш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ADE-CD74-43D7-9E8F-0C81BB899B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660066"/>
                </a:solidFill>
                <a:latin typeface="Tahoma"/>
              </a:rPr>
              <a:t>АКУТНА ФАЗА НАКОН ПОВРЕДЕ МИШИЋ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Т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лагане актив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е након 36 - 48 h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датна хиперемија, бржа ресорпција хематома и редукција стварања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љног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Е МАСАЖА !!!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 крварење и даље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ње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их влак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јделотворније због по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ња оксигенације 20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27A8-D1E0-45B1-83FD-D9C2E3D34A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РЕХАБИЛИЗ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чиње процес регенерације повр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ђ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них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их влакана и тада треб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именити физикалне процедуре у циљу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стимулације регенераци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спре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ч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авања стварања о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ж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иљног ткив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IFS, мале дозе UZ (микромас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 н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лијском нивоу), IMP, ласер, термо, УВ, 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р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ТХ - постепен ниво по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ња оптер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; након 2 недеље је интензивн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9A7B-2697-4FA1-9BD6-D00F351420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форсирним контракцијама насупрот отпору, снажном контракцијом велике амплитуде или прекомерним истезањем. 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стегнућа без видљивог прекида мишићног влакна и крвар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стегнућа са микроруптурама, долази до делимичног прекида појединих мишићних влакана, уз оштећење кс и крварења (настанак хемато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3A9A-C125-4E34-86F4-030E218281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ТОМЕХАНИЗАМ  ПОВРЕДЕ М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Ш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Ћ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2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458c"/>
                </a:solidFill>
                <a:latin typeface="Times New Roman YU"/>
                <a:ea typeface="Times New Roman"/>
              </a:rPr>
              <a:t>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ка контракција против силе коју је 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 савладати (дизање тер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силно – пасивно померање зглоба у тренутку контракције (скок на ног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дарац на контраховани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90000"/>
              </a:lnSpc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зненадна контракција антагониста у фази контракције агони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FFF3-3616-430C-A4D7-50F6D58D8A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о или услед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в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минимално крварење, минималне структурне пром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руг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арцијални расцеп, обилније крварење, бол, инфламација, испад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ћи степ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отпуни расцеп, велико крварење,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610A-39AF-4B5C-8660-0CE3ED24C9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ДИСТОРЗИЈА (УГАНУЋЕ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комерни покрет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 д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 и до 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 тетивног апар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ј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 - талокрурални зглоб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66C-AFDE-445A-9E22-A1CEB59D31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овека представља човеков зглобно-коштано-мишићни систем који му омогућује промену положаја у простору и све остале вољне механичке покре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систем садржи пасивни и активни де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и д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 овог система чине кости и зглобови, а активни скелетни мишић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7F1-9DB9-4E5E-A312-4EBC46C62E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орзије (уганућ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3520" y="14479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вред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апсуле, лигамената, синовије и тетивних припоја. Дејств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уб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механичк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сил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вод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контролисаног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крет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зглоб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ој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релаз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физиолошк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аниц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еластичности</a:t>
            </a: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  <a:ea typeface="Arial"/>
              </a:rPr>
              <a:t>ст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епен- елонг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Истезање лиг.апарата капсуле и синовије, без прекида анатомског интегитета лигамена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- лаце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лази до делимичног прекида континуитета лиг. Ситних кс, без израженог оштећења функције. Хематом настаје брз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 - рупту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ајтежи степен, прекид континуита лиг., каспуле и неких вас.елемената. Потпуни губитак функције. Клиничк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физ.положај зглоба, оток, хематом, бол, без активних пок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В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48EC-1B59-4EED-9003-78EB4AD090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762120" y="1676520"/>
            <a:ext cx="41148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о истезање ligg. и зглобне ча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отечен (после неколико дана), болан и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-457200">
              <a:lnSpc>
                <a:spcPct val="110000"/>
              </a:lnSpc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RICE; физикална терапија (UZ, EF, IFS, IMP, ласер, хидроКТХ,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ДРУГ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2D9-356F-4F47-BA2C-92E7DC071C7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762120" y="1676520"/>
            <a:ext cx="45720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прснуће меких структура зглоба (лигамената или чаур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 је јако болан, делимично натечен, са знацима излива и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лагано нестабил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RICE; физикална терапија (UZ, EF, IFS, IMP, ласер, хидроКТХ,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РЕЋИ СТЕПЕН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СТОРЗ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E72B-D5A9-4DB9-A6E0-30B7F8862F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838080" y="182880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Bef>
                <a:spcPts val="29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кидане зглобне в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, а истовремено је и капсула зглоба поцеп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 оперативно л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стоп.рехаб.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врати снагу, обим покрета и функ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Луксације (ишчашењ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дислокације зглобних површина под дејством прекомер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дефомација зглоба, бол и ограничена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имичне луксације или сублуксациј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и контакт зглобних површ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а луксација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ислокација зглобних површина, уз потпуни губитак међусобног конт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864-C356-4C04-849B-37621C667F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-36108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асна деформација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де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омена боје коже изнад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творе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ишчашење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рварење из отворене р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лпацијом се пипају зглобни крајеви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ктивни покрети у зглобу нису могући, а пасивни су болни и ограниче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1199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покушаја покретања, јавља се еластични отпор у зглобу због контракциј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61080" indent="-3610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3B54-A35D-4795-8863-15E6B1CD46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епози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о пре (како не би д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о до скр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ња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 кроз њихову контракцију услед бол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мобилизација - мора бити довољно дуга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(6-8 недељ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 току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имена физикалних агенаса: IMP, IFS и дозиране стат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кон скидања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ап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ње реституција кроз физ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у активност (баз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и тренинг), хидроКТХ, ES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SP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блик) и остале физикалне агенс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C62A-3ACF-4E60-9415-20100DF203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им или индиректиним дејством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арцијал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јак бол, престанак сваке активности, потпуна функција мишића и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омплет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и тренутан губитак функције мишића или тетиве, локална импресија на месту прекид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797E-0BB6-4F3E-9293-DD4C7B4DCD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ОВРЕДЕ ТЕТИВ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Брадитрофно ткиво, храни се дифуз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  с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рупту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тетива (Ахилове, екстензора прстију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к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Механизам настан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716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дејство прекомерне си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857160" indent="-457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ре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299-74FF-4E06-BAFA-159F8003892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СКИ ПОСТУПЦИ КОД РУПТУРЕ ТЕТИ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Делимич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имобилизација 8-12нед.+ физикална 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Потпун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х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рур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ка интервенција у првих 24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фази имобилиз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ерације: изометријске контрак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MP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F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имобилзаци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 КТХ,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, IFS, DDS, UZ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ласер, криомасажа, 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709-C1EB-4A6B-8D63-646A11DFB9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РЕЛОМ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СКИ ПОСТУПЦИ КОД РУПТУРЕ ТЕТИ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1199"/>
              </a:spcBef>
              <a:buSzPct val="11326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У трећој фази</a:t>
            </a: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: КТХ, хидроКТХ, истезање (</a:t>
            </a:r>
            <a:r>
              <a:rPr b="0" lang="sr-RS" sz="2300" spc="-1" strike="noStrike">
                <a:solidFill>
                  <a:srgbClr val="ff0000"/>
                </a:solidFill>
                <a:latin typeface="Tahoma"/>
                <a:ea typeface="Times New Roman"/>
              </a:rPr>
              <a:t>активно, НЕ ПАСИВНО!</a:t>
            </a: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); прогресивне вежбе са отпором за повређени сегмент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1199"/>
              </a:spcBef>
              <a:buSzPct val="11326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Покрет повређеног (оболелог) дела: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Статичке (изометријске) контракције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Концентричке контракције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40458c"/>
                </a:solidFill>
                <a:latin typeface="Tahoma"/>
                <a:ea typeface="Times New Roman"/>
              </a:rPr>
              <a:t>Ексцентричке контракције </a:t>
            </a:r>
            <a:endParaRPr b="0" lang="en-US" sz="21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SzPct val="11326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бољи ефекат комбинација оптерећења и истезања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spcBef>
                <a:spcPts val="1199"/>
              </a:spcBef>
              <a:buSzPct val="11326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значајније - правилно дозирано и прилагођено оптерећење</a:t>
            </a:r>
            <a:r>
              <a:rPr b="0" lang="en-US" sz="23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575"/>
              </a:spcBef>
              <a:buSzPct val="11326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8E7-8C54-4BAA-B22B-190AB98740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 КОД КОМПЛЕТНИХ РУПТУ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и расцеп, велико крварење, деформ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перативна терапија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егзактна реадаптација м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29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јбитнији елемент у постоперативном периоду је програм рехабилитације и примена физикалне 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95B-BC2C-4632-8002-C2BCB644FF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 КОД КОМПЛЕТНИХ РУПТУ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Након мировања зап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иње програм рехабилитације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редукција еде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, лимф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дрен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ж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им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електротерапи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(Е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-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P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облик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базриво запо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ети програм терапије покретом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хидрокинез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ренинг снаге и коорди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AB05-6C13-4C5D-820A-B7EC94322D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ЛИКАЦИЈЕ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ПОВРЕДА МИШИЋ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Цистични хематоми или (псеудо)цис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сифицирајући миоз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Ожиљак спречава регенерацију и ствара адхез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Губитак контрактилне способности 10-20% услед интер и интрамускуларних адхезија, промењене дужине влакана и повреда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C714-6BF9-4AFD-8962-3D4F610DFA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овреде мишићних фас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изоловане или удружене са мишићним лез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јстом директне силе (ударац) у контрахован миши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оловане повреде фасције може доћи до пролапс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D4C1-7033-4B5F-90D8-D87013ABC1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82A-19EC-432E-9014-DD33A03F64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АТОГЕН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штећењ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запаљенске ре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опоравк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аза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A461-6D88-4C3A-94E9-D0A14F9519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није промене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ецизније мето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ћност коришћења скупих дијагностичких мет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9F66-F3CB-44B9-848B-75DD26E963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Дијагностика мекоткивних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Инспекција и палпа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диограф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штанозглобног систе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меких ткива, тетива, лигамената и површних зглобних структ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Р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е свега за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нутрашње зглобне структу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ли и структуру кости и повреде меких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за компликоване фра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18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цинтиграф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стију за акутну коштану трауму - стрес фрактур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B2F3-8512-4D12-BB0D-392990EDA8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Дијагностика мекоткивних повре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етоде снимања се надопуњују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 не искључуј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у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и и тетиве: УЗ и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ови : РТГ, УЗ, МР, К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ти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чма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а : РТГ, КТ, М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ек пре дијагностичког прегледа напоменути радиологу да је у питању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реда и објаснити механизам трауме да би се радили специјални снимци и специфичне МР секвен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1B2-FC7C-4EF4-BB44-02FFB83E62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елом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кости се дефинише као потпуни или непотпуни прекид континуитета коштаног ткива, проузрокован силом која превазилази границу његове природне еластич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може бити потпун, с прекидом континуитета периоста или непотпун, кад је периост очу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 обзиром на стање коже изнад места прело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творени преломи (кожа оштећена,склоност ка инфекцији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затворени преломи (кожа интактн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C51C-6DB7-4AE7-A014-9D206A4C5CE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Основни циљ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пречити настанак грубог ожиљног ткива које може довести до знатнијег оштећења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рвој фази - спреч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рваре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развој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RICE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4 - 48 h: смањ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бољшати периферн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циркулаци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спешити ресорпцију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екстравазат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успоставити физиолошк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љивос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 мишићн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на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DB6B-6156-4005-9C68-26FD94B8C1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БАЗИЧНИ ПРИНЦИПИ ЛЕЧЕЊА МЕКОТКИВНИХ ПОВРЕД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АКУТНА ФАЗ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сновни ЦИЉ - смањење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, борба против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емато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и спречавање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аљег оштећењ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повређених структур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оже се рећи да је главни смисао непосредне фазе лечења након повреде (48-72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1" lang="sr-RS" sz="2400" spc="-1" strike="noStrike">
                <a:solidFill>
                  <a:srgbClr val="ff0000"/>
                </a:solidFill>
                <a:latin typeface="Tahoma"/>
              </a:rPr>
              <a:t>спречити настанак хематома!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6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1DE-D511-4FE3-BF88-60BBDF91D3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вија се на месту оштећења меког ткива неколико часова после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настаје под дејством хемијских материја из изумрлих ћелија. Вазодилатација је праћена екстравазацијом и стварањем тзв инфламаторног ексудата богатог беланчевинама и ћелијама запаљ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бриноген се под дејством ткивног тромбопластина претвара у фибр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е 3-5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4093-ABA4-4F4C-94A2-2E501C3A57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е карактери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црвенило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rub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повишена лок.температур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бол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локални оток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tum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5. поремећај функције орган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functio laes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C10-C1B4-4146-AE1C-AE7F667493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опоравка ткива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 (репарациј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још током прве фазе, након 3 дана од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ликује се пролиферацијом капиларне мреже, ствара се гранулационо ткив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вара се ожиљно ткиво од фиброцита (колагена влакн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мирање ожиљка се завршава након 3 недеље (има тенденцију сталног скраћив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8092-2747-40C6-9CAE-54A73B71979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трајати до годину дана и виш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агена влакна добијају у чврстини и усмере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7552-1D80-4870-A381-8934398721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ОПШТИ ПРИНЦИПИ ФИЗИКАЛНОГ ТРЕТМАНА И РЕХАБИЛИТАЦИЈЕ БОЛЕСНИКА СА ПОВРЕДОМ МЕКИХ ТКИВ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 – миро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 - 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pression - компрес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vation - елева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06F-D00D-4F53-B045-B34D817E4F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прв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збијање локаног запаљ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ширењ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крварења и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ом физикалне терапије се смањује секундарна фиброза и обезбеђује квалитетно зарастање повређеног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D84E-A48D-4BB5-BB71-3D3B3BFA58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примењене физикалне тх у друг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епараторних процеса одн ставарање оптималних услова за опоравак повређеног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 треће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и функционални опр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флексибилн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е снаге и издржљивости, брзине и координ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ардиореспиратор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F023-6380-4F0D-9C60-00872B52C82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Отворени прело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узрок отвореног прелома је пробијање коже оштрим уломком кости или деловања јаких сила споља која директно оштећују кожу, поткожно ткиво, мишиће и саму к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обраћани т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матизам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A713-BC26-4565-A508-6CF8E3A925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ком имобилиз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ТХ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контракције за повређени сегмен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за слободне сегмент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ка ходу уз помоћ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B3F1-232B-4D04-8986-0A6BFBD79C8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дикаментозна терапија у запаљенск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САИЛ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 for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nedol ung, Hepathrombin g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пликација пешкира претходно потопљеног у хладну (може и слана вода) воду на сегмент тела 30-6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пауза 3-5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еса са ледом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ерз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Лако испарљиве теч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Cryo cuff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ето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5272-9563-444C-8FDA-F8A39052BC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компресивног заво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еластични завој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редукције отока и крвар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љан, али не превелик притисак (посматра се дистални део повређеног сегмен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вација екстремит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истални сегменти екстремитета изнад хоризонталне рав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смањењ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ДЕ елевација изнад ниво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ГЕ изнад нивоа ср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3E40-7E13-49D9-9574-60CD65DEE2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ЛАКШИХ ПОВРЕДА – изометријске вежбе за флексоре,екстензоре 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дукторе. Одржав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у контрактилност мишића, спречава настанка атрофије. Побољшава се циркул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ТЕЖИХ ПОВРЕДА – само 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-боља оксигенација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СЛОБОДНЕ СЕГМЕНТЕ ЕКСТРЕМИТЕТА И ТРУПА- повећ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 се снага, брзина, ел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ичност и издрж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74D8-2EB0-4648-A87E-BCF36AA2FA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даци примењене физикалне терап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снабдевањ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клањање запаљенског ек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фибробластичне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07A-A572-4276-BE9E-B70EF83D3C3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ОТЕРАПИЈА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вазодилатације (активне хиперем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лед хиперемије убзава се циркулација и бржа је ресорпција екс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ва се истегљивост колагена везиног ткива (тиме се побљшава ефекат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562-9E2C-4901-BBF1-6BA6534EF3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КТ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(сп обли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C50B-EF93-4F6F-A8AD-3827FACE0B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ЗВУЧНА МАСАЖ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кромасажа на ћелијском ниво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термичко дејство – 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ћава се ексензибилитет колагена и побољшан је ефекат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ЉУБИЧАСТИ ЗРАЦ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ог дана по једна б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а в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МП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 ТЕРАПИЈА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барична тх (капа, рука, чиз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3D5-0450-49CC-9AE9-AC4E05D1D1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 ВАСКУЛА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-3 дана се започеиње ктх програм по престанку бол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НАМИЧКЕ ВЕЖБЕ- када болесник почне да толерише изометријс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-потпомогнуте, активне и активне са отпором према функционалном статус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јачања стабилизације т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чање слободних сегмената и опште конди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CE2C-B438-431A-836B-92405AD7A08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грам оспособљавања обухва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вежбе за обим покрета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вежбе јачања мишића стабилизатора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тренинг проприоцепције или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вратак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A51A-1A9D-4DCB-9A1B-207876FFB7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реломи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21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УМА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РЕС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ОБЛИКУ преломне лин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4000" indent="-5040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СИ;   б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ИРАЛНИ;  ц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ДУЖНИ;   д)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ПРЕЧ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6E38-8C42-4649-837F-F7DBD9E6A9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опли обло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наизменич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вртлож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двод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двод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F27D-6A82-48B0-A841-1A145E3175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најчешће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нтинуирани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E26-75F4-4E3D-B5C2-B911072F9D0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локалне микро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ећање еластичности колагених влакана у повређеним тки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умањити инфламаторни одговор меких ткива на 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се ставља акценат на ктх и хидрокинезитерап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ценат је на функционалном опорав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C97E-4F89-438D-A5FA-4D0C724AEEC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кционална процена кроз специфичне тест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EEB2-3C7B-44B7-88AF-1779F261D9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ВРСТЕ ПРЕЛОМ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сура или напрсн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убпериост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коминутив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мултифрагмент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вишестру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интраартикулар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луксац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прелом “зелене гранчице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авулзио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епифизиол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9CF-AFCE-4113-A9DC-05A6B1290E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8:57:07Z</dcterms:modified>
  <cp:revision>926</cp:revision>
  <dc:subject/>
  <dc:title>Rehabilitacija traumatoloških bolesnika</dc:title>
</cp:coreProperties>
</file>